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F200-ED71-4923-ACC9-2297D6B3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47EA-6DAC-43A0-BC62-7C84C98EF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254C-618F-4A6C-A288-882177B47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Load traffic into netgrok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save fil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pcap formatted network captur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directly from an interface in real-tim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Interface has three tabs corresponding to 3 diff. views of network traffic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graph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treemap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edge tab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underlying data being visualized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graph view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network hosts are nodes in a graph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connections are edges between the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seen by mousing over a hos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s inside the center ring are local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outside are foreig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foreign hosts layed out with a hashing algorithm, so they will appear in the same location in every installat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 size is proportional to the number of connections they make, also know as their degre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s are colored by their bandwidth usag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red hosts consume a lo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green ones consume litt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s that send no traffic are called zero-byte host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white nodes with dashed border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Double clicking zooms in and ou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Also zoom with scroll wheel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Pan by dragging canva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Defined two group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goog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wireles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Groups edited in groups.ini file in installation directo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Zoomed in on google group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explore by mousing ove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context menu options (DNS lookup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treemap view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displays hosts as rectangles in hierarcy of network group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thick borders separate groups while thin one separate hosts within each group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Useful for displaying large network captur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more hosts and connections without occlus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s colored by network usag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Red hosts consume a lot of bandwidth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Yellow ones consume very litt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 size is proportional to the number of connections it mak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A hosts connections can be displayed by mousing over i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Hosts with connections to the selected host remain colored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Those without are grayed ou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Large packet trac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Analyze network resource patters in a large datase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searching and filtering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Capture of wireless users at the 2006 OSDI conference from crawdad websit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anonymized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Quickly shows top bandwidth consuming host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This host sends large ammount of into to one other hos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Largest rectangles are the hosts that make the most connectio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Details on demand pane shows further info about host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incoming and outgoing connectio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Search box can be used to show hosts matching given IP and subnet mask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Start with 192 using an 8-bit mask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bandwidth and degree sliders can be used to find hosts matching a range of bandwith or degre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istogram at bottom of screen shows a line chart of the number of connections made over tim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slider below it can be used to inspect the connections made in a specific tim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finding a ping sweep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Filtering by degree shows a large number of zero-byte hosts in the dat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zero-byte hosts are ones to which data is sent but no response is received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typically the result of a ping sweep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the user tries to find other hosts on the network by communicating with a range of IP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Let's try to find the user performing the suspected ping sweep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find times zero-byte hosts appear using the time slide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Large number of connections in short amout of tim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If we show edges for a few zero-byte hosts and relax the degree filter, we can trace the edges back to their origi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7B13-C559-495B-947A-6A9A48340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8BF3-DF34-450B-9ED2-1A861C1C0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A9CD-675C-40A5-AD11-8A953A38D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C238-5569-4AB3-9035-249D5459B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A022-C38D-4D0F-9312-CC241D673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B018-F696-407C-8628-94E11392E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517-0F3D-452F-BCCD-B568B040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B8C-CE8C-4943-A821-CF69E74F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2C3-DEC2-4A4D-AB5D-70A12626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A46-9F37-4F83-99BB-A24D46C9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B7E-C489-4906-B8D4-2E3957A1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7E2-82C8-4CCE-B75B-AC570179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5E3-A6DC-4332-BBCA-8B91B199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643-EF5B-49BA-93AC-38DD8AB0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B48-AAD9-4486-907F-AF07CBC8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A06-332B-4460-890C-39D3956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632-2A79-4DA7-9B39-90DA4FA5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680-B62E-4DC1-A180-E1E44B81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F131-B90C-428F-8962-6E0B7DFE7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vlc\vlc.exe &quot;NetGrok Screencast.m4v&quot; --no-audio --fullscreen --start-time 16 --stop-time 424" TargetMode="External"/><Relationship Id="rId2" Type="http://schemas.openxmlformats.org/officeDocument/2006/relationships/image" Target="../media/image2.jpeg"/><Relationship Id="rId3" Type="http://schemas.openxmlformats.org/officeDocument/2006/relationships/hyperlink" Target="vlc\vlc.exe &quot;NetGrok Screencast.m4v&quot; --audio --fullscreen --start-time 16 --stop-time 723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ualizing Real-Time Network Resource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655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yan Blue, Cody Dunne, Adam Fuch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yle King, and Aaron Schul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versity of Marylan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pt. of Computer Sc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ct: cdunne@cs.umd.ed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orkshop on Visualization for Computer 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ptember 15, 200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ston, 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ct In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site:   www.cs.umd.edu/projects/netgro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cdunne@cs.umd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r network data is rich, and full of interesting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ersarial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iguration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fair resource u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dministrators don’t typically use visualization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o much data to see visu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tt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 to fol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tools are text b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Grok brings new visualizations to network administ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-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ual s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local syst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ology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usual network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Gr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7" descr="netgrok_entir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Sound">
            <a:hlinkClick r:id="rId3"/>
          </p:cNvPr>
          <p:cNvSpPr/>
          <p:nvPr/>
        </p:nvSpPr>
        <p:spPr>
          <a:xfrm>
            <a:off x="8153280" y="6248520"/>
            <a:ext cx="371520" cy="447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hed layout for consistent node plac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ed, home-centric network lay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map showing connections between nodes without oc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se-over and preferential display of edges reduces visual complex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of filter and selection widgets to network visu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ualization framework for real-time IP data fl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in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ualizations and data store built primarily using the Prefuse toolki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 data structures and visual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 capturing and PCAP file reading use the JPCAP 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 constructed with Jigloo Eclipse plug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fessional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t user: Brad Plecs, Network Administrator for the CS Dept. at UM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case meetings (2 x 1 hr + emai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CAP and live capture analysis (1 h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rt scale questionna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itiv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ter sliders, esp. time hist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uitive layout and group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NetGrok is excellent as a real-time diagnostic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ticis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s to be aware of transport layer data (TCP/UD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namic grou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imations are confusing, distracting, and s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emaps interesting but not intui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support for aging off old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visual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mantic substrates for foreign host lay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rser views for larger data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security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or Ben Shneiderman our advi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d Plecs for offering expert advice and participation in our preliminary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mas Lotze, Joonghoon Lee, Michael VanDaniker, Fatemeh Mir Rashed, Abigail Daken, Michael Lam, Huimin Guo, and Krist Wongsuphasawat our class paper revie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0:37:58Z</dcterms:created>
  <dc:creator>hidedrive</dc:creator>
  <dc:description/>
  <dc:language>en-US</dc:language>
  <cp:lastModifiedBy>hidedrive</cp:lastModifiedBy>
  <dcterms:modified xsi:type="dcterms:W3CDTF">2008-09-23T22:18:11Z</dcterms:modified>
  <cp:revision>58</cp:revision>
  <dc:subject/>
  <dc:title>NetGrok A Visualization Tool for Network Administrators</dc:title>
</cp:coreProperties>
</file>